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353-74C0-4AA9-864E-4D769ACC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B952-6F12-46D6-A45B-A922D74F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7CB-32F3-4D91-BFB7-66D48121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4DC6-5ADA-462C-86F9-CFBFF041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79A1-17D6-4520-B8FE-19AD5F61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6E3-9782-4E40-A534-A03E9215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F18-E40C-4766-9488-FB0924DD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2FEA-7E55-4A24-8F6B-F78CD425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96B-A67C-4F16-BCFD-316F9D24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E5E2-B797-478E-9A14-6CCC924F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3085-9208-475F-B7AF-EA433791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415-F248-432B-93BB-F7E44CA9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BS_PPoint4x3Purple_TLlog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8409-6860-4F98-9571-0D04D12F1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ollcode.com/admin-pollcode.cgi?PTw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ing online instructors and assessing their instr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arb Storan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ALTA Solutions Group, 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ia Dos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PBS Teacher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aRay M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PBS Teacher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ubtitle 3"/>
          <p:cNvSpPr/>
          <p:nvPr/>
        </p:nvSpPr>
        <p:spPr>
          <a:xfrm>
            <a:off x="1143000" y="1600200"/>
            <a:ext cx="7010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arb Storan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Arial"/>
              </a:rPr>
              <a:t>ALTA Solutions Group, L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Barb@altasolutionsgroup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ia Dos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Arial"/>
              </a:rPr>
              <a:t>PBS Teacher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lcdossin@pb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aRay M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Arial"/>
              </a:rPr>
              <a:t>PBS Teacher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lmason48@comcast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t poll – what are you hoping to gain from this s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ollcode.com/admin-pollcode.cgi?P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PBS Teacher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, graduate level courses (scheduled, facilitated, asynchronous)  for PreK–12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ed, certified facilitators lead more than 90 top-quality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-week courses that span the entir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experts collaborated to develop courses of the highest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PBS_PPoint4x3Purple_TL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tation Program ~ Recrui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acilitators have Master’s Degree or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online learning experience either as facilitator or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by local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pass TL Online Facilitator Training regardless of previous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tation Program~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Facilit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00 national facilitators that facilitate one or more course(s) per yea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lf have been teaching online at least 5 yea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6.3% of our facilitators have a CAS/EdS or Ph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51% facilitate course for other online provid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00% have experience as online learn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tation Program~ Training and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professional learning community (F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ly faculty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acilitator men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re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courses (OFT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urse Review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ive/summ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-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I and II course re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 rating cover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tator Compet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534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en Eff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ors rate TeacherLine’s PD hig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rate facilitators’ performance hig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ors have few unmet learning needs related to online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ors positioned PBS TeacherLine’s PD as demonstrating innovation and best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5:10:43Z</dcterms:created>
  <dc:creator>Christine Kellmurray</dc:creator>
  <dc:description/>
  <dc:language>en-US</dc:language>
  <cp:lastModifiedBy>Matt Wicks</cp:lastModifiedBy>
  <dcterms:modified xsi:type="dcterms:W3CDTF">2010-11-14T05:16:50Z</dcterms:modified>
  <cp:revision>16</cp:revision>
  <dc:subject/>
  <dc:title>PowerPoint Presentation</dc:title>
</cp:coreProperties>
</file>